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87EEC-DB3B-479D-8A65-59CAC9C17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7194D-7596-48F5-8187-F644C02C0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B88E8-F9C8-4624-ACB0-7B2DC84A4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7E164-8521-49DF-92B7-81C7EE1D1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1D3BC-11B1-490C-B078-53959253B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5C427-ACB5-497A-9D2B-1E0A09A6D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F6F99-1AB1-42AD-910D-B02B7F6DD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B7B2F-22A9-4320-9EEE-FA7D48EE3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C27ED-5C1E-4A0D-9FB6-98089B195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1E51C-767C-44EC-9A44-C309D6B18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B3F5D-F989-41AF-B5A7-3E8ADF867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4ACD4-14D0-4285-A590-A51B9F92A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EBA85-FC17-422F-A854-84084ACCE7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e Guide 8-1  Nature of G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838080" y="1523880"/>
            <a:ext cx="7696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inetic Theory = </a:t>
            </a:r>
            <a:r>
              <a:rPr b="1" lang="en-US" sz="2400" spc="-1" strike="noStrike" u="sng">
                <a:solidFill>
                  <a:srgbClr val="996600"/>
                </a:solidFill>
                <a:uFillTx/>
                <a:latin typeface="Times New Roman"/>
              </a:rPr>
              <a:t>al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atter has tiny particles that are alway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71600" y="2209680"/>
            <a:ext cx="533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gas particles are 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molecules or ato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219320" y="2590920"/>
            <a:ext cx="73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 assumptions of the kinetic the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447920" y="2971800"/>
            <a:ext cx="7162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 Particles in gases 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are small, hard spheres with 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basically no volu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447920" y="373392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Motion of gas 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particles is fast, constant and rand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828800" y="4114800"/>
            <a:ext cx="678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this is why 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gases fill their contain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5120" y="4572000"/>
            <a:ext cx="693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also why we can smell 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gas when its on when it is shut off, eventually we can’t smell anymore of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71240" y="68544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 All collisions between particles 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in a gas are perfectly 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elastic.  Kinetic energy transferred from one 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particle to another without loss of ener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33520" y="19051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s Press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38080" y="236232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comes from the 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force exerted by a gas per unit surface area of an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8080" y="320040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What causes gas pressur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066680" y="3657600"/>
            <a:ext cx="7620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simultaneous collisions of 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billions of rapidly moving 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particles in a gas with an object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90720" y="457200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What do we call it 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where there are no partic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00200" y="510552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a 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vacuum –empty space, no press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3000" y="83772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Atmospheric pressure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523880" y="1447920"/>
            <a:ext cx="693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very familiar to 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447920" y="190512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caused by the colliding 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atoms and molecules in the a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523880" y="2362320"/>
            <a:ext cx="7239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decreases as you 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move away from the earth because the density decre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523880" y="3200400"/>
            <a:ext cx="723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What measures 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air pressure?  A barometer, of cour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523880" y="3657600"/>
            <a:ext cx="723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SI unit is the 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pascal (P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523880" y="4191120"/>
            <a:ext cx="723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normal atmospheric 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pressure = 100,000 P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23880" y="4648320"/>
            <a:ext cx="7239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STP (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standard temp and press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–temp 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of 0 deg C and a pressure of 101.3 kP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inetic Energy and Tem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914400" y="1371600"/>
            <a:ext cx="7620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particles absorb 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energy and store it in the particle itself, but temp does not ra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914400" y="2133720"/>
            <a:ext cx="769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the rest of the 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energy speeds up the particles, which increases the tem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914400" y="289548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erage Kinetic Ener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143000" y="3352680"/>
            <a:ext cx="7620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particles of atoms and molecules 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at a given temp have wide range of kinetic energ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143000" y="419112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most of the particles are in the middle r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3000" y="472428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physical state of matter 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does not change the average kinetic ener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erage Kinetic Energy and Kelvin Tem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295280"/>
            <a:ext cx="73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as particles cool, 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we know they slow dow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219320" y="1828800"/>
            <a:ext cx="73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theory says, 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they will eventually stop. = absolute ze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219320" y="2362320"/>
            <a:ext cx="74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absolute zero 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has not been achieved in the lab, but clo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219320" y="2743200"/>
            <a:ext cx="7162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Kelvin scale incorporates 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absolute zero, starting the scale the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676520" y="3657600"/>
            <a:ext cx="6781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kelvin temp is 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directly proportional to the average kinetic energy of the particles of the substan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4:05:52Z</dcterms:created>
  <dc:creator>jpak</dc:creator>
  <dc:description/>
  <dc:language>en-US</dc:language>
  <cp:lastModifiedBy>Farwell Area Schools</cp:lastModifiedBy>
  <dcterms:modified xsi:type="dcterms:W3CDTF">2008-12-16T14:15:06Z</dcterms:modified>
  <cp:revision>9</cp:revision>
  <dc:subject/>
  <dc:title>Note Guide 8-1  Nature of Gases</dc:title>
</cp:coreProperties>
</file>